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2C29-6135-479C-8F61-E9D9096DA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94E2-ABD0-4CA2-BB33-CDFCD552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7D2C-8A2A-4212-8EA8-432FBDB4D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00DB-6AF4-4834-A3D2-EC872667C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89689-91CC-4EBB-8C14-393FF6416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9B4F-6877-4ABD-9635-B505DA29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0283-BA03-42D0-8CE9-A30014D3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087E-B9F2-4FDF-B2FD-6099D8F9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741F7-4248-48B3-8AA3-426F9F39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B409-7A29-4BD1-8BD2-F61F925E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3AD3-BF0E-48AB-82BE-7B9211D4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98EA-61E1-48FF-85B7-3429C5DD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BEBB-3311-4BCA-9ECF-831513E2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B630-7945-4E72-9FCD-365380FA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89B4-297F-470E-894C-6E4D7402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1511-3501-4E71-AEC2-05D85B28F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7EE5-9892-4D97-BD3F-7B2471B01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46FBA9-399F-49DD-90D0-841B0CD7A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79CD43-9207-4830-A0DA-477696D8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B636D1-1FFA-4774-8D70-7C5C2D34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DA5C9D-4AC3-45F8-9255-CDA7B138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A3C345-7A35-4A15-9F4F-EA1EC2AB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FC84-2686-44EB-9A6E-2A579B83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5F027A-3C78-4FE7-8881-AE7A5413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683F8D-2CDF-483E-B4A1-D1B8DB86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891332-10DE-42A0-877B-8BF462A0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A50D46-9385-4E3F-A86C-5A854CF7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D5FD7A-8D5A-43A7-8BA7-D52E2E36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193EA0-BDD2-4BDA-B314-D9AE9715C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CAD338-F428-4010-AABF-719EEEB32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734BD-F0E2-4E90-86D0-D606C7FF0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818BC-F2D2-48C5-A268-C9C17A3E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B5536-9658-4C80-8355-D42B470F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1462-F801-49D4-9972-0E834338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86351-5AEC-4AE9-A93C-A26234F8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03438-6CD1-4D95-8E49-4CBB29A4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67DB3-BF1A-407F-BE8A-1F7792C4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FD334-577E-420F-AA54-174100BE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4C869-0CA2-4E66-A542-CB27894A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D77B9-91E4-4A41-A0B2-C76D9AA5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1B0A4-3F21-41CE-881D-8241BAD6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44998-12A0-46E3-9798-452F7331D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28384-4822-43E5-8867-130F7DFD8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1C6F70-722C-4761-91C9-F9EAEAE14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F456-91D9-4B70-B742-89D0631B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E6511B-C2EB-46A0-82C4-7E4DE34C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32F8E6-6818-448A-B353-9D644130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0FE28B-ECD6-46AE-8873-DBB4055B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6A27EE-A16F-42A0-B008-42173517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3A9244-C256-4C9E-B51C-FA5D3E6E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AF607F-03A9-4102-8D14-C8B4F50F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DC764B-6ED7-496A-8E0E-D513D75F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AED323-A55C-4FF0-91B2-1614FBEB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335F53-762B-41FC-A468-E4FA8764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F21A8D-1D40-4D88-BC4F-D525A5F74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DA32-AB03-4388-B9CD-1DCDBCA3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78845F-A680-4311-9779-5FBADC8F0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F9EE9E-4B79-4046-8C44-6C27CE283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F1F3F8-7C33-40F1-BAF6-4168067D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80B38E-B460-4076-BC6A-4740B757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6398B0-F438-4AAC-B9F4-4BADCAAE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81E224-77B1-47D0-B775-AEB9B26B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75C259-996A-4D35-9A57-3D8DBC1F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1DB1CF-7BDD-4A04-BFB6-F8241195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FF3B63-87CA-469C-8B77-6EF9B8C0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D18CB6-0E24-46EB-96AA-C0BF1C65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A166-764D-4D7A-A84C-7E6D5E01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E1D3B6-52FD-451C-AD38-6E04C354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65730A-E29F-451B-946B-E7F6024B3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ACA2CE-F8F7-427B-8A94-B38F4DCB6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1CE8C5-AA84-4B6B-AEA7-B674E1732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5ED1C2-8BCE-4B8B-85C1-93ED3F43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DC68E4-8479-48AD-8DBB-D0B095EE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7A1715-88C1-4843-97B4-531EE1B7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D3F420-B901-48B2-87A6-9F61588F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931F4B-4C75-40A8-B5A5-AA777FF3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923600-B02D-448C-ACA7-8F2F7FF2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A272-26EE-42DA-BCF7-A5B22006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8C5E84-7725-40EB-934A-5CEA81FA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430B14-7FE8-4A8C-AD1E-1055A493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D317D4-C032-4AC3-AF4D-E15C4B7F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6884E7-FB1B-491B-AB6B-2782DE8E0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EEF7E2-6703-4A1C-80CD-98E04AE59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5359-EE0D-4069-ADC2-9DE0800B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2BDB-DBEF-4E93-AAFA-F2692ECBA2F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1E7A-9B58-4CCC-B737-F3334DC336F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2977-336B-435E-99C3-B71B07F26C7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D836-A634-4143-9145-61F78F98CBE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70D8-27F8-445A-89A3-3FC89A6AEDB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E7E2-85A2-45C1-BC9E-AF7EC6C76DA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37BB-3034-47B4-B42D-C0A4B387C9D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2205000"/>
            <a:ext cx="6172200" cy="28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75f6d"/>
                </a:solidFill>
                <a:latin typeface="Century Schoolbook"/>
              </a:rPr>
              <a:t>ТЕХНОЛОГИЯ ПРОБЛЕМНОГО ОБУЧЕНИЯ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23640" y="-243000"/>
            <a:ext cx="746748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575f6d"/>
                </a:solidFill>
                <a:latin typeface="Century Schoolbook"/>
              </a:rPr>
              <a:t>   </a:t>
            </a:r>
            <a:r>
              <a:rPr b="0" lang="ru-RU" sz="8000" spc="-1" strike="noStrike">
                <a:solidFill>
                  <a:srgbClr val="575f6d"/>
                </a:solidFill>
                <a:latin typeface="Century Schoolbook"/>
              </a:rPr>
              <a:t>СПАСИБО ЗА                </a:t>
            </a:r>
            <a:r>
              <a:rPr b="0" lang="ru-RU" sz="8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ru-RU" sz="8000" spc="-1" strike="noStrike">
                <a:solidFill>
                  <a:srgbClr val="575f6d"/>
                </a:solidFill>
                <a:latin typeface="Century Schoolbook"/>
              </a:rPr>
              <a:t>ВНИМАНИЕ!</a:t>
            </a:r>
            <a:endParaRPr b="0" lang="en-US" sz="8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ПРОБЛЕМНОЕ ОБУЧЕНИЕ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 — ОРГАНИЗОВАННЫЙ ПРЕПОДАВАТЕЛЕМ СПОСОБ АКТИВНОГО ВЗАИМОДЕЙСТВИЯ СУБЪЕКТА С ПРОБЛЕМНО-ПРЕДСТАВЛЕННЫМ СОДЕРЖАНИЕМ ОБУЧЕНИЯ, В ХОДЕ КОТОРОГО ОН ПРИОБЩАЕТСЯ К ОБЪЕКТИВНЫМ ПРОТИВОРЕЧИЯМ НАУЧНОГО ЗНАНИЯ И СПОСОБАМ ИХ РЕШЕНИЯ. </a:t>
            </a:r>
            <a:br>
              <a:rPr sz="3000"/>
            </a:b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ПРОБЛЕМНАЯ СИТУАЦИЯ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 – ЭТО ПОЗНАВАТЕЛЬНАЯ ЗАДАЧА, КОТОРАЯ ХАРАКТЕРИЗУЕТСЯ ПРОТИВОРЕЧИЕМ МЕЖДУ ИМЕЮЩИМИСЯ ЗНАНИЯМИ, УМЕНИЯМИ, ОТНОШЕНИЯМИ И ПРЕДЪЯВЛЯЕМЫМ ТРЕБОВАНИЕМ.</a:t>
            </a: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ОСНОВНЫЕ ПСИХОЛОГИЧЕСКИЕ УСЛОВИЯ:</a:t>
            </a: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1) </a:t>
            </a:r>
            <a:r>
              <a:rPr b="0" lang="ru-RU" sz="2500" spc="-1" strike="noStrike">
                <a:solidFill>
                  <a:srgbClr val="575f6d"/>
                </a:solidFill>
                <a:latin typeface="Century Schoolbook"/>
              </a:rPr>
              <a:t>ПРОБЛЕМНЫЕ СИТУАЦИИ ДОЛЖНЫ ОТВЕЧАТЬ ЦЕЛЯМ ФОРМИРОВАНИЯ СИСТЕМЫ ЗНАНИЙ.</a:t>
            </a:r>
            <a:br>
              <a:rPr sz="2500"/>
            </a:br>
            <a:r>
              <a:rPr b="0" lang="ru-RU" sz="2500" spc="-1" strike="noStrike">
                <a:solidFill>
                  <a:srgbClr val="575f6d"/>
                </a:solidFill>
                <a:latin typeface="Century Schoolbook"/>
              </a:rPr>
              <a:t>2) БЫТЬ ДОСТУПНЫМ ДЛЯ ОБУЧАЮЩИХСЯ</a:t>
            </a:r>
            <a:br>
              <a:rPr sz="2500"/>
            </a:br>
            <a:r>
              <a:rPr b="0" lang="ru-RU" sz="2500" spc="-1" strike="noStrike">
                <a:solidFill>
                  <a:srgbClr val="575f6d"/>
                </a:solidFill>
                <a:latin typeface="Century Schoolbook"/>
              </a:rPr>
              <a:t>3) ДОЛЖНЫ ВЫЗЫВАТЬ СОБСТВЕННУЮ ПОЗНАВАТЕЛЬНУЮ ДЕЯТЕЛЬНОСТЬ И АКТИВНОСТЬ.</a:t>
            </a:r>
            <a:br>
              <a:rPr sz="2500"/>
            </a:br>
            <a:r>
              <a:rPr b="0" lang="ru-RU" sz="2500" spc="-1" strike="noStrike">
                <a:solidFill>
                  <a:srgbClr val="575f6d"/>
                </a:solidFill>
                <a:latin typeface="Century Schoolbook"/>
              </a:rPr>
              <a:t>4) ЗАДАНИЯ ДОЛЖНЫ БЫТЬ ТАКОВЫМИ, ЧТОБЫ УЧАЩИЙСЯ НЕ МОГ ВЫПОЛНИТЬ ИХ ОПИРАЯСЬ НА УЖЕ ИМЕЮЩИЕСЯ ЗНАНИЯ, НО ДОСТАТОЧНЫМИ ДЛЯ САМОСТОЯТЕЛЬНОГО АНАЛИЗА ПРОБЛЕМЫ И НАХОЖДЕНИЯ НЕИЗВЕСТНОГО.</a:t>
            </a:r>
            <a:br>
              <a:rPr sz="2500"/>
            </a:b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35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ДОСТОИНСТВА ПРОБЛЕМНОГО ОБУЧЕНИЯ: </a:t>
            </a: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1) ВЫСОКАЯ САМОСТОЯТЕЛЬНОСТЬ УЧАЩИХСЯ;</a:t>
            </a: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2) ФОРМИРОВАНИЕ ПОЗНАВАТЕЛЬНОГО ИНТЕРЕСА ИЛИ ЛИЧНОСТНОЙ МОТИВАЦИИ УЧАЩЕГОСЯ;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3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ПРОБЛЕМНОЕ ОБУЧЕНИЕ ВКЛЮЧАЕТ НЕСКОЛЬКО ЭТАПОВ:</a:t>
            </a: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1) ОСОЗНАНИЕ ОБЩЕЙ ПРОБЛЕМНОЙ СИТУАЦИИ;</a:t>
            </a: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2) ЕЕ АНАЛИЗ, ФОРМУЛИРОВКА КОНКРЕТНОЙ ПРОБЛЕМЫ;</a:t>
            </a: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3) РЕШЕНИЕ ПРОБЛЕМЫ (ВЫДВИЖЕНИЕ И ОБОСНОВАНИЕ ГИПОТЕЗ, ПОСЛЕДОВАТЕЛЬНАЯ ПРОВЕРКА ИХ);</a:t>
            </a:r>
            <a:br>
              <a:rPr sz="2700"/>
            </a:b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4) ПРОВЕРКА ПРАВИЛЬНОСТИ РЕШЕНИЯ ПРОБЛЕМЫ.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СИСТЕМА МЕТОДОВ ПРОБЛЕМНОГО ОБУЧЕНИЯ.</a:t>
            </a:r>
            <a:br>
              <a:rPr sz="3000"/>
            </a:b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1) ОБЪЯСНИТЕЛЬНО ИЛЛЮСТРАТИВНЫЙ;</a:t>
            </a:r>
            <a:br>
              <a:rPr sz="3000"/>
            </a:b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2) РЕПРОДУКТИВНЫЙ;</a:t>
            </a:r>
            <a:br>
              <a:rPr sz="3000"/>
            </a:b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3) ПРОБЛЕМНОЕ ИЗЛОЖЕНИЕ;</a:t>
            </a:r>
            <a:br>
              <a:rPr sz="3000"/>
            </a:b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4) ЧАСТИЧНО-ПОИСКОВЫЙ;</a:t>
            </a:r>
            <a:br>
              <a:rPr sz="3000"/>
            </a:b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5) ИССЛЕДОВАТЕЛЬСКИЙ МЕТОД.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ДИДАКТИЧЕСКИЕ МЕТОДЫ:</a:t>
            </a:r>
            <a:br>
              <a:rPr sz="3000"/>
            </a:b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1) МОНОЛОГИЧЕСКОМ;</a:t>
            </a:r>
            <a:br>
              <a:rPr sz="3000"/>
            </a:b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2) РАССУЖДАЮЩЕМ;</a:t>
            </a:r>
            <a:br>
              <a:rPr sz="3000"/>
            </a:b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3) ДИАЛОГИЧЕСКОМ;</a:t>
            </a:r>
            <a:br>
              <a:rPr sz="3000"/>
            </a:b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4) ЭВРИСТИЧЕСКОМ;</a:t>
            </a:r>
            <a:br>
              <a:rPr sz="3000"/>
            </a:b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5) ИССЛЕДОВАТЕЛЬСКОМ;</a:t>
            </a:r>
            <a:br>
              <a:rPr sz="3000"/>
            </a:b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6) МЕТОДЕ ПРОГРАММИРОВАННЫХ ЗАДАНИЙ.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68000" y="836640"/>
            <a:ext cx="7467480" cy="51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БИНАРНЫЕ МЕТОДЫ ОБУЧЕНИЯ:</a:t>
            </a:r>
            <a:br>
              <a:rPr sz="3000"/>
            </a:b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1) </a:t>
            </a:r>
            <a:r>
              <a:rPr b="0" i="1" lang="ru-RU" sz="3000" spc="-1" strike="noStrike">
                <a:solidFill>
                  <a:srgbClr val="575f6d"/>
                </a:solidFill>
                <a:latin typeface="Century Schoolbook"/>
              </a:rPr>
              <a:t>СООБЩАЮЩИЙ</a:t>
            </a:r>
            <a:br>
              <a:rPr sz="3000"/>
            </a:br>
            <a:r>
              <a:rPr b="0" i="1" lang="ru-RU" sz="3000" spc="-1" strike="noStrike">
                <a:solidFill>
                  <a:srgbClr val="575f6d"/>
                </a:solidFill>
                <a:latin typeface="Century Schoolbook"/>
              </a:rPr>
              <a:t>2) ИСПОЛНИТЕЛЬНЫЙ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 </a:t>
            </a:r>
            <a:br>
              <a:rPr sz="3000"/>
            </a:b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3) </a:t>
            </a:r>
            <a:r>
              <a:rPr b="0" i="1" lang="ru-RU" sz="3000" spc="-1" strike="noStrike">
                <a:solidFill>
                  <a:srgbClr val="575f6d"/>
                </a:solidFill>
                <a:latin typeface="Century Schoolbook"/>
              </a:rPr>
              <a:t>ОБЪЯСНИТЕЛЬНЫЙ</a:t>
            </a:r>
            <a:br>
              <a:rPr sz="3000"/>
            </a:br>
            <a:r>
              <a:rPr b="0" i="1" lang="ru-RU" sz="3000" spc="-1" strike="noStrike">
                <a:solidFill>
                  <a:srgbClr val="575f6d"/>
                </a:solidFill>
                <a:latin typeface="Century Schoolbook"/>
              </a:rPr>
              <a:t>4) РЕПРОДУКТИВНЫЙ</a:t>
            </a:r>
            <a:br>
              <a:rPr sz="3000"/>
            </a:br>
            <a:r>
              <a:rPr b="0" i="1" lang="ru-RU" sz="3000" spc="-1" strike="noStrike">
                <a:solidFill>
                  <a:srgbClr val="575f6d"/>
                </a:solidFill>
                <a:latin typeface="Century Schoolbook"/>
              </a:rPr>
              <a:t>5) ИНСТРУКТИВНЫЙ</a:t>
            </a:r>
            <a:br>
              <a:rPr sz="3000"/>
            </a:br>
            <a:r>
              <a:rPr b="0" i="1" lang="ru-RU" sz="3000" spc="-1" strike="noStrike">
                <a:solidFill>
                  <a:srgbClr val="575f6d"/>
                </a:solidFill>
                <a:latin typeface="Century Schoolbook"/>
              </a:rPr>
              <a:t>6) ПРАКТИЧЕСКИЙ</a:t>
            </a:r>
            <a:br>
              <a:rPr sz="3000"/>
            </a:br>
            <a:r>
              <a:rPr b="0" i="1" lang="ru-RU" sz="3000" spc="-1" strike="noStrike">
                <a:solidFill>
                  <a:srgbClr val="575f6d"/>
                </a:solidFill>
                <a:latin typeface="Century Schoolbook"/>
              </a:rPr>
              <a:t>7) ОБЪЯСНИТЕЛЬНО-ПОБУЖДАЮЩИЙ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 </a:t>
            </a:r>
            <a:br>
              <a:rPr sz="3000"/>
            </a:b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8) </a:t>
            </a:r>
            <a:r>
              <a:rPr b="0" i="1" lang="ru-RU" sz="3000" spc="-1" strike="noStrike">
                <a:solidFill>
                  <a:srgbClr val="575f6d"/>
                </a:solidFill>
                <a:latin typeface="Century Schoolbook"/>
              </a:rPr>
              <a:t>ЧАСТИЧНО-ПОИСКОВЫЙ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 </a:t>
            </a:r>
            <a:br>
              <a:rPr sz="3000"/>
            </a:b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9) </a:t>
            </a:r>
            <a:r>
              <a:rPr b="0" i="1" lang="ru-RU" sz="3000" spc="-1" strike="noStrike">
                <a:solidFill>
                  <a:srgbClr val="575f6d"/>
                </a:solidFill>
                <a:latin typeface="Century Schoolbook"/>
              </a:rPr>
              <a:t>ПОБУЖДАЮЩИМ</a:t>
            </a:r>
            <a:br>
              <a:rPr sz="3000"/>
            </a:br>
            <a:r>
              <a:rPr b="0" i="1" lang="ru-RU" sz="3000" spc="-1" strike="noStrike">
                <a:solidFill>
                  <a:srgbClr val="575f6d"/>
                </a:solidFill>
                <a:latin typeface="Century Schoolbook"/>
              </a:rPr>
              <a:t>10) ПОИСКОВЫЙ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6T05:15:25Z</dcterms:created>
  <dc:creator>МАКСИМКА</dc:creator>
  <dc:description/>
  <dc:language>en-US</dc:language>
  <cp:lastModifiedBy>Владимир</cp:lastModifiedBy>
  <dcterms:modified xsi:type="dcterms:W3CDTF">2015-06-25T07:38:55Z</dcterms:modified>
  <cp:revision>6</cp:revision>
  <dc:subject/>
  <dc:title>Технология проблемного обучения</dc:title>
</cp:coreProperties>
</file>